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EE7-20C2-4794-B519-0105308D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866-E0A8-4733-ABE8-6C5B0491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635-D78E-40B0-9244-A3A231DC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9CB-4864-4029-936D-A28C2C45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4B6E-F91D-463A-AD5E-E711884F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9442-1699-4C7E-8565-EAA72E5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5BC1-5F8E-4798-9F10-4D2E283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91E6-6E5B-46F3-BA3E-71CDC4F5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C91-24C2-4A9C-B80F-7FCA71C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494-9661-4A80-99F3-24A58BA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17D4-0BD6-4BB0-8F44-0577C70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CE9-5FA9-4687-B5EF-3D0D66D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D1CC-55CA-4D59-AD57-0C8E3D1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651-655F-44EF-B2B0-BE3B086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8671-9B21-4484-9509-9CC3179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2AD-3B6E-453D-B5B5-7AD37F85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7DC-69AD-411D-9B8F-F2CD76E1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BFC-B052-45F5-8C81-8D933BB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C79-BF3C-48DC-9F65-DFE6B81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FA1-584A-4F0F-AB55-1037D4F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3B8-ABDC-4BD0-B08C-99C2E10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022-CDF0-425A-B26A-720006C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E49-D97A-496B-97F4-4786F2A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5FA-F9EB-4816-88E5-479DD89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2CA-89B9-4010-8F99-CAE9D3D70C4B}" type="slidenum">
              <a:rPr b="0" lang="bg-BG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AD68-206F-424A-BD3F-84BB13A7E57E}" type="slidenum">
              <a:rPr b="0" lang="bg-BG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f1311"/>
                </a:solidFill>
                <a:latin typeface="Monotype Corsiva"/>
              </a:rPr>
              <a:t>Welcome To Bulgar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Седемте рилски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езер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едемте рилски езера е груп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а с ледников произхо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азположена в планина Рила. Имет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 всяко от Седемте рилски езер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ма връзка със специфични външни особености на даденот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о. Езерото, което е разположено на най-голяма надморс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височина, носи името Сълзата заради прозрачността на водит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които предлагат видимост в дълбочина. Следващо по височина 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азположение е Окото, което е с почти идеална овална форм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Окото е най-дълбокото циркусно езеро в България - дълбоко 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37,5 м. Бъбрека е езерото с най-стръмните брегове от цяла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група. Четвъртото езеро е Близнака. Това е най-голямото по площ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о от Седемте рилски езера. Езерото Трилистника е 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еправилна форма и невисоки брегове. Най-плиткото езеро 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ибното езеро. Най-ниското от езерата е Долното езеро. В него с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ъбира водата,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която изтича от останалите. Долното езеро да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чалото на река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Джерма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7068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Чудните мостове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в Родопите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Чудните мостове са изключителен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рироден скален феномен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азположен е в долината на река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ркюприя в Западните Родопи, в подножието на връх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Голям Персенк. Мостовете са се образували вследствие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розионната дейност на пълноводната в миналото река,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която е преобразувала пукнатините в мрамора в дълбок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одна пещера. Предполага се, че тя се е срутила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отломките са били отнесени от водите на реката. В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езултат на това са останали двата известни мраморн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моста. Големият е широк около 15 м. и е дълъг почти 100 м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Състои се от три арки, като най-голямата е с височина 45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ширина 40 м. Малкият мост е на 200 м от големия п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течението на реката - непроходим, дълъг 60 м., с общ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исочина 50 м. След него има и съвсем малък трети мост,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който представлява пещера, в която водите на Еркюприя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изчезват, за да се появят пак на повърхността чак след 3км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99400" y="9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2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2857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Минералните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извор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В България се срещат всич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известни на нашата планет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инерални води. Лечебните качества на българск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инерални извори са били познати още в дълбо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ревност. Край минералните извори у нас са съграждан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алнеолечебници още преди векове: Хисар – др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угуста, Кюстендил - Пауталия, Бургаски минерални бани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кве калите, Сапарева баня - Германея, Сливенски бани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Танзос и София - Улпия Сердика. Над 600-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идроминерални източници на територията на България с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 дебит 270 милиона литра в денонощие. По-голямата час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т тях са топли или горещи, извиращи от голя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ълбочина, което гарантира чистотата и лечебните и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войст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21440" y="98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8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Еделвай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Еделвайсът е многогодишн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ревисто растение от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семейство Сложноцветн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ой е защитено високопланинско растение, коет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има около 30 разновидности. Среща се в Европ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и Югозападна Азия. В България расте само еди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вид еделвайс и може да се види само в Пирин 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Стара планина. Изображението на растението 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емблема на Българският туристически съюз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(БТС). Стъблото на цветето е високо до 20 см.,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уфесто и покрито с власинки. Листата с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прикрепени към стъблото без дръжки и с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покрити с бели копринени власинки. Еделвайсът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у нас е защитен вид.</a:t>
            </a: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26360" y="9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6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Баниц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Ухаеща и пухкава, баницат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може да бъде сладка,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олена, сочна, вита, наложена, мързелива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Баницата има дългогодишна традиция н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офрата на българина. Смята се, ч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майсторлъкът на домакинята се вижда най-добр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в баницата, която тя прави. В различните краищ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 България баницата се прави по различен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чин, но най-често тя е вита, с плънка от яйца 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ирене. Общото между различните видов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баници са любовта и желанието, с коит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омакинята ги приготвя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500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26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28573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Вино Мавруд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Характерно българско вино с тъмночервен рубинен цвят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ритежава широк букет от аромати, сред които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реобладава ароматът на ягоди и череши, съчетан с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ванилов тон и сухи листа, с развитие към горски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лодове.</a:t>
            </a:r>
            <a:r>
              <a:rPr b="0" lang="en-US" sz="21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Вкусът е с изискан екстракт на диви плодове,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комплексна</a:t>
            </a:r>
            <a:r>
              <a:rPr b="0" lang="en-US" sz="21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лътност и свежа тръпчивост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21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27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Кисело мляк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иселото мляко е млече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одукт, който се получав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чрез ферментация. Основният микроорганизъ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ойто участва в процеса на ферментацията, с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рича Lactobacillus bulgaricus и се среща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вободно състояние единствено на територията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ия. Само тук киселото мляко може да се закваси с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алко от предишното. В други страни периодично внася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закваска. Лактобацилус булгарикус е първият доказан 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уката микроорганизъм с пробиотични, профилактични 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лечебни свойства и затова една кофичка кисело мляко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ен осигурява здраве и дълголет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65840" y="8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23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Шопска салат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Шопската салата е българско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ционално ястие от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категорията на предястията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едставлява салата от нарязани домати,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краставици, сурови или за предпочитане печен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чушки, кромид лук, пресен магданоз и настърган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или натрошено бяло саламурено сирене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дправя се с дресинг от растителна мазнин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(олио или зехтин) и евентуално - с винен ил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ябълков оцет. Понякога се слага и малко чесън,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особено ако чушките са печени. Шопите я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иготвят от местен сорт чушки, които имат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иятно лютив вкус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1036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24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Питка с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шарена сол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 стар български обичай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всеки скъп и очакван гост в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ома на стопаните се посреща с топла питка ил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гача, поднесена с шарена сол. Това 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пециален израз на гостоприемство, който трябв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а подскаже на госта, че дори нищо друго д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яма за ядене в къщата на стопаните, те пак щ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го посрещнат и нахранят със своето сърдечн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гостоприемство и „каквото Господ дал”. Друг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асоциация е фактът, че хлябът и солта са в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основата на живота.</a:t>
            </a:r>
            <a:r>
              <a:rPr b="0" lang="bg-BG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1840" y="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32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80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7468200">
            <a:off x="4952880" y="4190760"/>
            <a:ext cx="2438640" cy="30456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Republic of Bulga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Capital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and largest city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Sof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Area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110,910 km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Population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7,640,23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President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Georgi Purvano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Official language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Bulgar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Currency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Le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9480" y="208080"/>
            <a:ext cx="259092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12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2857680" cy="2104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Кирилицат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865 г. солунските брат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ирил и Методий създава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ската азбука.Т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тандартизират богослужебния език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ато се основават на солунското българско нареч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дполага се, че за записването му са използвали друга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лавянска азбука - глаголицата, но с добавен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арактерни букви, отговарящи на фонетичните особено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 езика ни, тя става наистина уникална. Най-голя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заслуга за разпространението на Кирилицата има ученикъ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 Кирил и Методий - Климент Охридс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2857320" cy="21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Българският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фолклор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Българско народно творчество е общот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именование за произведенията 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зкуството и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остиженията на културат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редаващи се традиционно от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окол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 поколение българи толкова дълго време, ч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е е забравило името на техния автор. Българскит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и песни са най-значителният, разнообразен 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художествен дял в българския фолклор. Народните песни 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ъздавани в стихотворна форма, при които текст и мелодия 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еразривно свързани. Българското народно поетическ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творчество води началото си от далечни времена. Първит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ведения за народни песни и певци са от 9-10 век. Най-м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и песни са запазени от 18-ти век. творци са хора с поетиче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 музикален талант - певци, гулсари, гайдари, кавалдж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ата песен се е създавала и развивала, предавала се е о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евец на певец и е стигнала до наши д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42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Балка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ът се свързва с България по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органичен начин, а народният гений го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е възпял в песните си. Стара план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или Балканът е планинска верига в Европа, намираща се 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ския полуостров, на която е кръстен самият полуостров. Т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е простира от Източна Сърбия до Черно море, като по-голямата 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част се намира на територията на България. Стара план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есича България по цялата дължина и разделя страната 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еверна и Южна България. Западна Стара планина се прост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от Белоградчишкия проход до Арабаконашкия проход с дълж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190 км. Средна Стара планина се намира между Арабаконаш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оход и прохода Вратник, дълъг е 207 км. В този дял се нам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най-високият връх в планината — връх Ботев (2376 м). Източ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тара планина е с най-малка надморска височина. Простира се межд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охода Вратник и нос Емине на Черно море и има дължина 155к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ът „потъва” в морето при най-красивия плаж по нашето крайбреж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Иракл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6280" y="9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4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2857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Исторически хълм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Царевец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Царевец се нарича известният хълм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ъв Велико Търново, който е бил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главната крепост и столица на Втората българска държава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елико Търново е един от най-старинните градове в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България. Той има повече от петхилядолетна история, кат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ървите свидетелства за живот там са от третот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хилядолетие преди Христа. Хълмът Царевец е заобиколен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от три страни от река Янтра. По време на Вторат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българска държава е обитаван от царския двор, болярите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атриарха. Опасан е от крепостна стена, построена върху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стествени отвесни скали. На най-високата част н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Царевец се е намирала патриаршеската църкв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„</a:t>
            </a: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ъзнесение Христово“. Археологическите разкопк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оказват, че Царевец не е бил само затворена крепост, 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истински средновековен град, гъсто застроен с жилищни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итуални сгради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83520" y="8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16" descr=""/>
          <p:cNvPicPr/>
          <p:nvPr/>
        </p:nvPicPr>
        <p:blipFill>
          <a:blip r:embed="rId1"/>
          <a:stretch/>
        </p:blipFill>
        <p:spPr>
          <a:xfrm>
            <a:off x="4876920" y="152280"/>
            <a:ext cx="270504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7d47d"/>
                </a:solidFill>
                <a:latin typeface="Arial"/>
              </a:rPr>
              <a:t>Рилският манастир</a:t>
            </a: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Рилският манастир се намира 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Югозападна България, в горнот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течение на Рилска река. Основан 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10-ти век. Рилският манастир е един от културн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аметници в България, включени в списъка за световнот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ултурно-историческо наследство на ЮНЕСКО. Манастиръ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"Св. Иван Рилски" е построен на мястото на стара постниц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927-941 г. от Иван Рилски (или от негови ученици).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вора на днешния манастир през 1335 г. е издигна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тбранителна кула и малка еднокорабна черква от мест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феодален владетел Хрельо. Кулата е най-старата запазе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града в манастирския комплекс и по стил принадлежи къ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рхитектурата на Търновската художествена шко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9520" y="80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1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Мадарски конник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адарският конник е археологичес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аметник, представляващ изсечен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калите релеф на 23 м. височина 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сновата на отвесна скала. Намир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е в североизточн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ия, близо до село Мадара и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20 км. от град Шумен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бявен е за паметник на световнот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историческо наследство от ЮНЕСКО през 1972 г. Релефъ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дставлява триумфиращ владетел - символ на мощта 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ската държава от ханския й период. В естестве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големина са изобразени конник в ход надясно, орел 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ералдична поза, летящ пред него, подскочило куче, коет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го следва, и прободен с копие лъв, повален под преднит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рака на коня. Детайлите определят датировката къ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чалото на 8-и век и времето на хан Тервел (701-721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02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17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28573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kata</cp:lastModifiedBy>
  <dcterms:modified xsi:type="dcterms:W3CDTF">2008-08-09T16:00:3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